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3B0E1-F233-49D7-A8AD-7006EE41E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74568-7C25-40BB-B088-21776711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98551-0823-4411-BC3C-205FB5F75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D0734-0502-4630-B06C-F668D8E30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E75C-E949-449F-8EB5-1F847AB94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9B90-73CC-4A67-BE2E-CA29F0F9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0FF9-0360-4A88-AC2D-3B79FEF0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7835-D7C3-415D-A4FD-5655D3AD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FCEF-A079-4AC6-81B6-B9A43A4F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A321-4C28-468B-BBEF-F7995EEF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DD54-A5DA-4F91-8DC5-C587E1CD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55A28-84E9-45DF-BC25-ED264756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2745-1E80-4265-BF68-099CD964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9B5C-00D0-4AE4-A88F-4D0DA9E9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A2BB-0E6E-493C-A553-D2F96A26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8D3A-BF66-4818-95F6-E8B4845E9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4859-0815-4A3A-A337-20DF33C10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E8F5C-9635-4A49-BFE7-1C360286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E55DA-E752-4734-9268-2A10F18F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08B84-06C3-4DCB-AA45-B43F54D4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D9303-1601-4EB1-8A9D-52066894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46750-9F59-4F8B-BD60-A25CE16D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EEFE2-D377-49E1-944A-73D54C62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F9B6D-42D7-453C-AE05-1E3231E3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2079" t="0" r="11840" b="0"/>
          <a:stretch/>
        </p:blipFill>
        <p:spPr>
          <a:xfrm>
            <a:off x="0" y="0"/>
            <a:ext cx="914256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5410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C79F-2CEA-4B4B-904E-D1E172959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1430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2361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rcRect l="2079" t="0" r="11840" b="0"/>
          <a:stretch/>
        </p:blipFill>
        <p:spPr>
          <a:xfrm>
            <a:off x="0" y="2895480"/>
            <a:ext cx="9142560" cy="1143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4038480"/>
            <a:ext cx="9142560" cy="152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BFA8-59D3-4AE0-B349-E84111F5C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Dialects and Varieti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ny A. Kwary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www.kwary.ne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irlangga University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egional Dialec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60958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al variation in pronunciation, in the choices and forms of words, and in syntax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lect geography: a map of the distributions of various linguistic features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gloss: a line drawn to show a dialect boundary between adjacent areas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1" name="Picture 4" descr="j0335112"/>
          <p:cNvPicPr/>
          <p:nvPr/>
        </p:nvPicPr>
        <p:blipFill>
          <a:blip r:embed="rId1"/>
          <a:stretch/>
        </p:blipFill>
        <p:spPr>
          <a:xfrm>
            <a:off x="6324480" y="160020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j0300840"/>
          <p:cNvPicPr/>
          <p:nvPr/>
        </p:nvPicPr>
        <p:blipFill>
          <a:blip r:embed="rId2"/>
          <a:stretch/>
        </p:blipFill>
        <p:spPr>
          <a:xfrm>
            <a:off x="6324480" y="4267080"/>
            <a:ext cx="198144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ialect vs. Acc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erm dialect should not be confused with the term accent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nt: the pronunciat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lect: the pronunciation, vocabulary, and gramm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o-called ‘best’ English accent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ceived Pronunciation (RP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also called the Queen’s English, Oxford English, and BBC English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cial Dialec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dialects originate among social groups and are mainly related to social class, religion, and ethnicity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g. In Baghdad, the Christian, Jewish, and Muslim inhabitants speak different varieties of Arabic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examples of social dialects in America?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tyles, Registers, and Belief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tyles: formal vs. informa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174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ow do these differ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anguage Registers: associated with occupational group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174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hat are some examples of these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Beliefs: judgment about ‘better’ or ‘worse’ varieties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174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 America, what varieties are considered better?  Worse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385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385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385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385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385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385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" dur="385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" dur="385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385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385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385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385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385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385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" dur="385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385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385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385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" dur="385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" dur="385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385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385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" dur="385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" dur="385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23:54:03Z</dcterms:created>
  <dc:creator>Deny A. Kwary</dc:creator>
  <dc:description/>
  <dc:language>en-US</dc:language>
  <cp:lastModifiedBy>Bill Comer</cp:lastModifiedBy>
  <dcterms:modified xsi:type="dcterms:W3CDTF">2010-06-21T00:25:49Z</dcterms:modified>
  <cp:revision>3</cp:revision>
  <dc:subject/>
  <dc:title>Dialects and Varieties</dc:title>
</cp:coreProperties>
</file>